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D5BE1-E415-4C62-9569-564CFEF1A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DD597-A8D0-4859-9E9C-23078ECFB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97E96-7D28-4C9D-8CF3-6490E0DCE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6CBB0-1690-493E-AC0D-EAC647C0F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BCEF4C-FCDD-49E8-BA60-E7A3608A0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C8051E-9F03-4A56-B570-6D8DB6BEB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ABFB4F-1C1D-4B83-92B1-5EAD65EF8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784DAC-34DA-4912-B1EA-EA2323BD0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1EA9E3-B052-48C4-ABAE-8D13C0A60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FAB05C-E760-4AF9-8738-BCF43A52A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B5AC80-87A2-4212-9A7C-48CCE43B4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D1C7E-1A1F-4094-BE1B-8BFB919F6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EBEAFE-EF5F-4845-9558-54D1BD1D1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80F264-29EF-4AE0-BC30-AE1B7778C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624EF2-0E62-4514-A28B-1DDC8A0EA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4881E2-A1D7-4CCF-915B-A506DA196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44E818-B421-4037-B6C6-034716A5E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331D2-7902-49C8-8907-CD45AC7E0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31989-D557-44BC-96D4-2EC13F0FE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B7A1D-E760-4740-8A1F-FA35926CC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5BD90-8107-465C-B4D6-2131F53C3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9EEA8-AF69-4CF4-BDBC-D7DE2878B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3DBF8-2822-4408-B03D-958E971CF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41D21-06A2-4856-86C7-486E33FDF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24748-08A0-4B5C-961F-87C86D95BE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>
              <a:gd name="textAreaLeft" fmla="*/ 0 w 1440"/>
              <a:gd name="textAreaRight" fmla="*/ 1800 w 1440"/>
              <a:gd name="textAreaTop" fmla="*/ 0 h 3035160"/>
              <a:gd name="textAreaBottom" fmla="*/ 3035520 h 3035160"/>
            </a:gdLst>
            <a:ahLst/>
            <a:rect l="textAreaLeft" t="textAreaTop" r="textAreaRight" b="textAreaBottom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F6DFA-FE1D-4DF9-9CD0-08C7CE1775C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2666880"/>
            <a:ext cx="64008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ession 5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alk Show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5" name="Picture 4" descr="samples TND"/>
          <p:cNvPicPr/>
          <p:nvPr/>
        </p:nvPicPr>
        <p:blipFill>
          <a:blip r:embed="rId1">
            <a:lum bright="6000"/>
          </a:blip>
          <a:srcRect l="52001" t="1546" r="2941" b="85641"/>
          <a:stretch/>
        </p:blipFill>
        <p:spPr>
          <a:xfrm>
            <a:off x="0" y="0"/>
            <a:ext cx="9144000" cy="19810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5" descr="Title"/>
          <p:cNvPicPr/>
          <p:nvPr/>
        </p:nvPicPr>
        <p:blipFill>
          <a:blip r:embed="rId2"/>
          <a:stretch/>
        </p:blipFill>
        <p:spPr>
          <a:xfrm>
            <a:off x="0" y="5638680"/>
            <a:ext cx="9144000" cy="1219320"/>
          </a:xfrm>
          <a:prstGeom prst="rect">
            <a:avLst/>
          </a:prstGeom>
          <a:ln w="0">
            <a:noFill/>
          </a:ln>
        </p:spPr>
      </p:pic>
      <p:sp>
        <p:nvSpPr>
          <p:cNvPr id="87" name="Text Box 6"/>
          <p:cNvSpPr/>
          <p:nvPr/>
        </p:nvSpPr>
        <p:spPr>
          <a:xfrm>
            <a:off x="6172200" y="533520"/>
            <a:ext cx="2743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Text Box 7"/>
          <p:cNvSpPr/>
          <p:nvPr/>
        </p:nvSpPr>
        <p:spPr>
          <a:xfrm>
            <a:off x="304920" y="6278400"/>
            <a:ext cx="2590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Rectangle 8"/>
          <p:cNvSpPr/>
          <p:nvPr/>
        </p:nvSpPr>
        <p:spPr>
          <a:xfrm>
            <a:off x="457200" y="2209680"/>
            <a:ext cx="79246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6172200" y="533520"/>
            <a:ext cx="2743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228600" y="624852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Session 5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6320" y="22860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GUEST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urrent Alcoholic and Drug Addict (DAVID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avid’s Girlfriend (CECILIA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arent of Teenager who was a Victim of a Drunk Driving Accident (JESSICA/JIM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covering Drug Addict/Alcoholic (YVONNE/RICHARD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.U.I (Driving Under the Influence) inmate convicted of manslaughter (EDDY/BONNIE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est friend of someone who died of an accidental overdose (FRANK/LUCY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6T23:21:45Z</dcterms:created>
  <dc:creator>Alica</dc:creator>
  <dc:description/>
  <dc:language>en-US</dc:language>
  <cp:lastModifiedBy>Leah Meza</cp:lastModifiedBy>
  <dcterms:modified xsi:type="dcterms:W3CDTF">2009-11-24T18:37:01Z</dcterms:modified>
  <cp:revision>19</cp:revision>
  <dc:subject/>
  <dc:title>Project TND  (Project Towards No Drug Abuse)</dc:title>
</cp:coreProperties>
</file>